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6452-6EB8-42C7-B848-FD37AA791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14600" y="413064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1E4F-86AD-4613-9AE9-5C44B3EA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1460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5568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89CB-D7C3-4E3F-92D0-9A3B2F9C3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300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9140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1460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5300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9140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CB93-BD1E-40C7-B024-044597089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F0FE5-9CFE-4F00-9304-C58ADB5FF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23BCA-2D0C-4F66-AE7E-0E8DCD2D5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90927-B9B9-4E80-9053-DBB7C815F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6F6C1-4B0B-4E59-9060-7DB2E0430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1C1C8-EA12-453F-8815-89C253F23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05740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C20F0-CF0D-422B-AA57-EAD2B03F5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1460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07185-83CA-4599-A084-BDA24026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8E6D-DC25-4630-A306-230ABD06E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75568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4DBC3-3B96-4F6D-BC22-C673945E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14600" y="413064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531A8-5ADC-4696-86A0-06E368D2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14600" y="413064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94D48-7E00-4B73-959A-E0C849E2D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1460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75568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FA65A-9E97-4C89-A7FA-218BBE54D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300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9140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1460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5300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9140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F3A8E-18B7-423A-AD53-58CEC285B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D68B-E8E7-471F-A41E-4D3F65DB6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A884-05E4-429F-B8C3-83AC7140A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B680-8C11-4981-8FF3-DEA126F4F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5740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67FF-D6EB-412B-8769-C45D32E60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1460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B560-A2B3-4575-A35B-0C42DA24F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5568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141C-77B8-4478-A8FD-A46759264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14600" y="413064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55A1-8228-4359-AB14-27AFDF08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520"/>
            <a:ext cx="3429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27414-21D2-4BB4-B924-158D632DDDE0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16426-B76D-4D7A-9206-7E0F7B738DF4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Monotype Sorts" charset="2"/>
              <a:buChar char="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Harrington"/>
              </a:rPr>
              <a:t>Global Warming</a:t>
            </a:r>
            <a:endParaRPr b="0" lang="en-US" sz="6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2438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rrington"/>
              </a:rPr>
              <a:t>By: Shyheeda Washington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rrington"/>
              </a:rPr>
              <a:t>Dr. Scearce 7th period 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Global Warming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437920" y="1981080"/>
            <a:ext cx="6324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arrington"/>
              </a:rPr>
              <a:t>Global warming</a:t>
            </a:r>
            <a:r>
              <a:rPr b="0" lang="en-US" sz="2800" spc="-1" strike="noStrike">
                <a:solidFill>
                  <a:srgbClr val="000000"/>
                </a:solidFill>
                <a:latin typeface="Harrington"/>
              </a:rPr>
              <a:t> is the increase in the average temperature of the Earth's near-surface air and oceans since the mid-twentieth century and its projected continuatio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arrington"/>
              </a:rPr>
              <a:t>Since 1979, land temperatures have increased about twice as fast as ocean temperatures (0.25 </a:t>
            </a:r>
            <a:r>
              <a:rPr b="0" lang="en-US" sz="2800" spc="-1" strike="noStrike">
                <a:solidFill>
                  <a:srgbClr val="000000"/>
                </a:solidFill>
                <a:latin typeface="Harrington"/>
              </a:rPr>
              <a:t>ｰ</a:t>
            </a:r>
            <a:r>
              <a:rPr b="0" lang="en-US" sz="2800" spc="-1" strike="noStrike">
                <a:solidFill>
                  <a:srgbClr val="000000"/>
                </a:solidFill>
                <a:latin typeface="Harringto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Harrington"/>
              </a:rPr>
              <a:t> per decade against 0.13 </a:t>
            </a:r>
            <a:r>
              <a:rPr b="0" lang="en-US" sz="2800" spc="-1" strike="noStrike">
                <a:solidFill>
                  <a:srgbClr val="000000"/>
                </a:solidFill>
                <a:latin typeface="Harrington"/>
              </a:rPr>
              <a:t>ｰ</a:t>
            </a:r>
            <a:r>
              <a:rPr b="0" lang="en-US" sz="2800" spc="-1" strike="noStrike">
                <a:solidFill>
                  <a:srgbClr val="000000"/>
                </a:solidFill>
                <a:latin typeface="Harringto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Harrington"/>
              </a:rPr>
              <a:t> per decade)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2437920" y="1143000"/>
            <a:ext cx="63248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arrington"/>
              </a:rPr>
              <a:t>Global temperatures have increased by 0.75 </a:t>
            </a:r>
            <a:r>
              <a:rPr b="0" lang="en-US" sz="3000" spc="-1" strike="noStrike">
                <a:solidFill>
                  <a:srgbClr val="000000"/>
                </a:solidFill>
                <a:latin typeface="Harrington"/>
              </a:rPr>
              <a:t>ｰ</a:t>
            </a:r>
            <a:r>
              <a:rPr b="0" lang="en-US" sz="3000" spc="-1" strike="noStrike">
                <a:solidFill>
                  <a:srgbClr val="000000"/>
                </a:solidFill>
                <a:latin typeface="Harringto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Harrington"/>
              </a:rPr>
              <a:t> (1.35 </a:t>
            </a:r>
            <a:r>
              <a:rPr b="0" lang="en-US" sz="3000" spc="-1" strike="noStrike">
                <a:solidFill>
                  <a:srgbClr val="000000"/>
                </a:solidFill>
                <a:latin typeface="Harrington"/>
              </a:rPr>
              <a:t>ｰ</a:t>
            </a:r>
            <a:r>
              <a:rPr b="0" lang="en-US" sz="3000" spc="-1" strike="noStrike">
                <a:solidFill>
                  <a:srgbClr val="000000"/>
                </a:solidFill>
                <a:latin typeface="Harringto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Harrington"/>
              </a:rPr>
              <a:t>) relative to the period 1860-1900, according to the instrumental temperature record.      </a:t>
            </a: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arrington"/>
              </a:rPr>
              <a:t>The urban heat island effect is estimated to account for about 0.02 </a:t>
            </a:r>
            <a:r>
              <a:rPr b="0" lang="en-US" sz="3000" spc="-1" strike="noStrike">
                <a:solidFill>
                  <a:srgbClr val="000000"/>
                </a:solidFill>
                <a:latin typeface="Harrington"/>
              </a:rPr>
              <a:t>ｰ</a:t>
            </a:r>
            <a:r>
              <a:rPr b="0" lang="en-US" sz="3000" spc="-1" strike="noStrike">
                <a:solidFill>
                  <a:srgbClr val="000000"/>
                </a:solidFill>
                <a:latin typeface="Harrington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Harrington"/>
              </a:rPr>
              <a:t> of warming since 1900.</a:t>
            </a:r>
            <a:r>
              <a:rPr b="0" lang="en-US" sz="2800" spc="-1" strike="noStrike">
                <a:solidFill>
                  <a:srgbClr val="000000"/>
                </a:solidFill>
                <a:latin typeface="Harringto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6:59:18Z</dcterms:created>
  <dc:creator>PA Department of Education</dc:creator>
  <dc:description/>
  <dc:language>en-US</dc:language>
  <cp:lastModifiedBy>PA Department of Education</cp:lastModifiedBy>
  <dcterms:modified xsi:type="dcterms:W3CDTF">2009-05-22T17:44:04Z</dcterms:modified>
  <cp:revision>6</cp:revision>
  <dc:subject/>
  <dc:title>Global Warming</dc:title>
</cp:coreProperties>
</file>